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9C4-7581-4896-A23B-4F72619D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EE8-64E3-48BC-B315-FE106680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66B-7C64-49F7-BAD0-895621C9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347-5714-4F8F-B127-63C4BD1D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7A44-79A5-4429-A80D-B23185FF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06D8-A9F8-4CA2-AE2D-C7EFF120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149C-779E-4060-8492-DD2D6E65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37E4-8DC6-4EB3-9FD7-7F4A8AC6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62F4-DDB4-4A47-8B6A-03ED2746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46A1-98DB-498F-85B9-A640BFD1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73CD-A74B-4FAE-9F31-66E1EE9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334-36D3-4A41-8DE2-676F9E12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17B9-1539-4E69-A6D0-E0D3E88C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4016-577A-4F74-B8E9-00A97A22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420A-915E-4D48-8111-3042532E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A1B2-D717-4486-87E4-3531208A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0920-1893-42FB-B22F-F13F31EA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ED4-7AD4-4AC0-B719-BDDDB58D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53B-DB02-489B-85EE-BC8FF2F6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5F8-AD2F-4CC6-AEF1-B2ED20E2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896-AA4E-4E43-98DF-3AEC5A2F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504-3566-45F1-A622-0A6E40B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4E8-FF1B-47AC-B704-F9A1D7B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D08-A797-40AF-8D7E-AA7C87F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2CD-D337-47B3-8E7A-D4AA8E730D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A27F-FAAE-4B1B-86FB-EB8F9F9F8D38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cientific Revolu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riod marked by new methods of thinking (focusing on science and math). MEDIEVAL UNIVERS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naissance vigor carried into a quest for tru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ploration demanded new too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ople challenged traditional Church teachings (REFORMATION weakened Christian “science.”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838080" y="2536920"/>
            <a:ext cx="3810240" cy="43210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685800" y="228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Rene Descartes (b. 1596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-emphasized deductive reasoning “Cogito Ergo Sum”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- “I think therefore I am”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-Deduction: assumed premises are combine to make conclusions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4800600" y="320040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amples of Deduction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All men are mortal, Ryan is an man; therefore, Ryan is mor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God exists, god is good; therefore, _____________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ore . . .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53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ientific Metho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uestion/Proble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ploration required new too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Picture 12" descr="MMj02347030000[1]"/>
          <p:cNvPicPr/>
          <p:nvPr/>
        </p:nvPicPr>
        <p:blipFill>
          <a:blip r:embed="rId1"/>
          <a:stretch/>
        </p:blipFill>
        <p:spPr>
          <a:xfrm>
            <a:off x="7620120" y="54100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IMPAC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 international commun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ientific Metho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roves nautical technolo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mited initial applic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atomy…. Y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ine… no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afety regulations…  no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were unaware or viewed as triv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Aristotl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495680" y="-360"/>
            <a:ext cx="46483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Geocentric Univer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10 crystal sphe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blunar element sph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’s of this ver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~ explains what we se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~ supports Christian i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6" name="Picture 2" descr="http://zebu.uoregon.edu/timages/cosmos.jpg"/>
          <p:cNvPicPr/>
          <p:nvPr/>
        </p:nvPicPr>
        <p:blipFill>
          <a:blip r:embed="rId1"/>
          <a:stretch/>
        </p:blipFill>
        <p:spPr>
          <a:xfrm>
            <a:off x="0" y="2255760"/>
            <a:ext cx="4572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solar_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New Universal Model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ernicus (early 1500’s) challenges the idea of geocentrici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oses a heliocentric univer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 is the center of a moving univer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rotates (movement of sta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univer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numerous plan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: Christian condemnation (Protestant protest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tars/comets earn him cr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436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360" y="7621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cho Brahe collects data on the movement of heavenly bodies (star charts and map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mark observa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pler finishes Brahe’s wor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ary Mo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ts move in an elliptic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rregular spee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bit time based on distance from su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Galileo’s Discoverie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1219320"/>
            <a:ext cx="7010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609 – Modifies a Dutch telescope to look into the heave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leration/terminal velocity is the same regardless of we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s many heavenly bo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tronized by Medici’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ings destroy Aristotle’s theor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urch is furio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Picture 5" descr="galileo_sustermans"/>
          <p:cNvPicPr/>
          <p:nvPr/>
        </p:nvPicPr>
        <p:blipFill>
          <a:blip r:embed="rId1"/>
          <a:stretch/>
        </p:blipFill>
        <p:spPr>
          <a:xfrm>
            <a:off x="0" y="0"/>
            <a:ext cx="2152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Galileo confesse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ks for forgiven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placed under house arrest (di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992 – Church admits he was r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holars read his theories and his views are accepted as “tru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Newton (1642-1727) Eng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nsely religio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i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incipia (1687) = physics until Einstei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hematical laws &amp; mo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iversal grav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Picture 2" descr="http://www.apeuropeanlahs.org/images/newton2.gif"/>
          <p:cNvPicPr/>
          <p:nvPr/>
        </p:nvPicPr>
        <p:blipFill>
          <a:blip r:embed="rId1"/>
          <a:stretch/>
        </p:blipFill>
        <p:spPr>
          <a:xfrm>
            <a:off x="6153120" y="3352680"/>
            <a:ext cx="2990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rriors of Scienc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ancis Bacon (English writer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tacked those who accepted the Church and Ancients without ques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mpiricism – must experiment &amp; obser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motes public scientific inqui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Picture 5" descr="Francis_Bacon"/>
          <p:cNvPicPr/>
          <p:nvPr/>
        </p:nvPicPr>
        <p:blipFill>
          <a:blip r:embed="rId1"/>
          <a:stretch/>
        </p:blipFill>
        <p:spPr>
          <a:xfrm>
            <a:off x="6705720" y="4191120"/>
            <a:ext cx="243828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Bacon"/>
          <p:cNvPicPr/>
          <p:nvPr/>
        </p:nvPicPr>
        <p:blipFill>
          <a:blip r:embed="rId2"/>
          <a:stretch/>
        </p:blipFill>
        <p:spPr>
          <a:xfrm>
            <a:off x="0" y="419112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static.guim.co.uk/sys-images/Arts/Arts_/Pictures/2008/12/17/orrery460.jpg"/>
          <p:cNvPicPr/>
          <p:nvPr/>
        </p:nvPicPr>
        <p:blipFill>
          <a:blip r:embed="rId3"/>
          <a:stretch/>
        </p:blipFill>
        <p:spPr>
          <a:xfrm>
            <a:off x="0" y="3886200"/>
            <a:ext cx="4952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Logic: Inductive vs. Deductive Reasoning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33360" y="1219320"/>
            <a:ext cx="7010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uctive: Take data and determine what conclusions can be ma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s cat is black. That cat is black. A third cat is black; therefore, all cats are black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probability of becoming schizophrenic is greatly increased if at least one parent is schizophreni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uses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herited? taught behavior? No effect is not an op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2:32:34Z</dcterms:created>
  <dc:creator>Robert Kuenzi</dc:creator>
  <dc:description/>
  <dc:language>en-US</dc:language>
  <cp:lastModifiedBy>Kuenzi</cp:lastModifiedBy>
  <dcterms:modified xsi:type="dcterms:W3CDTF">2016-12-14T17:54:57Z</dcterms:modified>
  <cp:revision>34</cp:revision>
  <dc:subject/>
  <dc:title>The Scientific Revolu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